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B6A-3F73-4F42-8DBD-03B44D80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D7C-36CF-44F3-9969-A54530B3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4EB-6E72-4894-B455-E73D73B8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52F-C772-4535-AA2A-C2A0C7F93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193-4512-4DC8-A1B6-1CB2BDAA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0F22-B525-486A-9B6C-D5FAD7B9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39C-4324-4C50-9FCD-E9FBF84B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EFB-B85F-4961-823E-87B7D733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B77B-D369-4020-9EC2-4615C5F9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65E6-43B4-4360-B6A2-C3C960D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02E2-DACE-4FD4-A44C-77AD54FE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9BF2-3EE4-4502-89EB-C2A0BED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E266-0FDA-4FF5-B68A-3A1D45B19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9630" t="38724" r="0" b="4033"/>
          <a:stretch/>
        </p:blipFill>
        <p:spPr>
          <a:xfrm>
            <a:off x="0" y="1371600"/>
            <a:ext cx="9144000" cy="408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0200" y="57913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556272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k Fu Lam to Korean International School of Hong K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.4 mi _ about 21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02:10Z</dcterms:created>
  <dc:creator>student305</dc:creator>
  <dc:description/>
  <dc:language>en-US</dc:language>
  <cp:lastModifiedBy>student305</cp:lastModifiedBy>
  <dcterms:modified xsi:type="dcterms:W3CDTF">2010-03-23T05:23:26Z</dcterms:modified>
  <cp:revision>3</cp:revision>
  <dc:subject/>
  <dc:title>Route Map</dc:title>
</cp:coreProperties>
</file>